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6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7B348-A450-4A51-A66E-B085F35EDA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7F221-A16B-4B4C-BF60-37C21B8A89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76F90-B232-447E-9934-EDDDE195A5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AA5CC9-5ADF-4355-A04A-CBE4BB205CF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9353F-CA0F-41D2-A816-60253AD0CE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2B126-85A2-4930-8DE8-0E11557F27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546F5-25C2-40E6-A76C-7C53D49F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185E-3506-4F59-9B21-CA663F2B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5D17D-36B9-4372-9529-27E6DFA5A6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8C627-24DB-4022-94E6-EE589E5FFB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E49C2-FEE0-40F3-AE1B-2BB10D73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7B44AF-2EEE-407E-AAF9-7D347AF4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A2834-C8A5-4008-96EA-F8852ADC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B875F-B172-4784-A835-E5522BB0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03555-180A-49AE-8A50-F957C8F1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71788-DCE9-46C6-A1BA-E01B304C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9C173-A664-4AD3-A2EF-08EFB1D1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D397F-42FD-4C23-B7A9-51967CB4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2747F-D112-4D0A-902A-352E699F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C553B-7BF0-433F-B6AC-5A8E1680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3FFD1-4953-41F5-AF5F-12FB046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16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5480" y="159984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16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5480" y="4144680"/>
            <a:ext cx="240372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57D165-5A17-4AE6-987E-F549FA61C5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B4763-56F6-4393-8C44-40924030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0AE4A-7A75-45E7-B289-0A1F137F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133C9-FB31-4212-B852-676A4D06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60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6979D-721F-4313-8E05-620D13846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C167-AFEF-4426-82E4-053DEE96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2560" y="414468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4505E-5B43-417D-811D-03E6F11B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2560" y="1599840"/>
            <a:ext cx="364320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6840" y="4144680"/>
            <a:ext cx="7466040" cy="23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5B69B-AC27-470D-B484-245F5DF2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2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156520" y="5715000"/>
            <a:ext cx="547920" cy="5475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0760" cy="18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16.5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9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2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9cd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990720" y="0"/>
            <a:ext cx="180720" cy="6858000"/>
          </a:xfrm>
          <a:prstGeom prst="rect">
            <a:avLst/>
          </a:prstGeom>
          <a:solidFill>
            <a:srgbClr val="fed9c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3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e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4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5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e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6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Line 17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18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19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2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Oval 2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0440" y="5500800"/>
            <a:ext cx="13680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Oval 24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Oval 25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sldNum" idx="2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AB7D15-F62A-4F15-9FE0-8C869C2E502D}" type="slidenum">
              <a: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2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2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6"/>
          <p:cNvSpPr/>
          <p:nvPr/>
        </p:nvSpPr>
        <p:spPr>
          <a:xfrm>
            <a:off x="8156520" y="5715000"/>
            <a:ext cx="547920" cy="5475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16.5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ACF3E4-5456-457F-B1C0-F6F9FFA307E1}" type="slidenum">
              <a:rPr b="0" lang="ru-RU" sz="1800" spc="-1" strike="noStrike">
                <a:solidFill>
                  <a:srgbClr val="000000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1988640"/>
            <a:ext cx="828036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Профилактика девиантного поведения среди несовершеннолетних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575f6d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БОУ СОШ № 3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Евтушенко В.А.</a:t>
            </a: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00000" y="907920"/>
            <a:ext cx="778536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Schoolbook"/>
              </a:rPr>
              <a:t>Цель: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ить особенности отклоняющегося повед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казание помощи  учащимся, подвергшимся жестокому обращению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Меры профилактики девиантного повед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entury Schoolbook"/>
              </a:rPr>
              <a:t>Виды проявления буллинга</a:t>
            </a:r>
            <a:r>
              <a:rPr b="0" lang="ru-RU" sz="3200" spc="-1" strike="noStrike">
                <a:solidFill>
                  <a:srgbClr val="3333cc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Вербальная агресс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смешки, присвоение кличек, бесконечные замечания и необъективные оценки, высмеивание, унижение в присутствии других детей и 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Социальное исключ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бойкот, отторжение, изоляция, заталкивание под парту, вымогательство, отказ от общения с жертв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Физическое насил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биение, нанесение удара, шлепки, подзатыльники, порча и отнимание вещей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Признаки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буллинга</a:t>
            </a:r>
            <a:r>
              <a:rPr b="0" lang="ru-RU" sz="4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Text Box 2"/>
          <p:cNvSpPr/>
          <p:nvPr/>
        </p:nvSpPr>
        <p:spPr>
          <a:xfrm>
            <a:off x="468360" y="162864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95280" y="1368360"/>
            <a:ext cx="8280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воряются больными, чтобы избежать похода в школ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ятся одни идти в школу и из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едение и темперамент меняют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являются частые просьбы дать денег, воров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нижаются качество учебы, теряются интерес к любимым занят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дистанцируются от взрослых и детей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являют агрессию ко взрослым и детя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имеют место социально-опасные формы поведения: насильственного, суицидального и зависимого характера (ПАВ зависимость, интернет-зависимость, игровая завис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ваная верхняя одежда или другие поврежденные ве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оянные ссадины, синяки и другие трав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азговор с ребенком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39280" y="907920"/>
            <a:ext cx="746604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«вышибать» ответы ребенка или подростка на тему насилия категорически нельзя!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едагог должен быть готов к пониманию и сопереживанию рассказу травмированного ребенка о травле другими детьми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Дети в качестве доверенного лица во многих случаях склонны выбирать авторитетных взрос­лых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ребенка, подвергшегося насилию, важны слова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тебе вер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е жаль, что с тобой это случилось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не твоя вин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орошо, что ты мне об этом сказа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постараюсь сделать так, чтобы тебе больше не угрожала опасность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60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entury Schoolbook"/>
              </a:rPr>
              <a:t>Алгоритм работы с преследователями</a:t>
            </a:r>
            <a:r>
              <a:rPr b="0" lang="ru-RU" sz="2400" spc="-1" strike="noStrike">
                <a:solidFill>
                  <a:srgbClr val="3333cc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говорить отдельно с каждым ребенком, ставшим их жертвой, и предложить письменно описать все случившеес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говорить отдельно с каждым членом группы агрес­соров и получить от них письменное изложение инцидента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ъяснить каждому члену агрессивной группы, что он нарушил правила поведения, и указать меру ответственности за содеянное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говорить с родителями детей, участвовавших в аг­рессивной группе, показать им письменные объяснения ребят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овать от ребят-обидчиков извинений перед по­терпевшими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действия обидчика прикрывались игровой фор­мой, зафиксировать, кто ещё из детей принимал участие в такой «игре»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entury Schoolbook"/>
              </a:rPr>
              <a:t>Профилактика буллинг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сихоэмоциональной среды и улучшение пси­хологического климата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сихолого-педагогической компетентности взрослых (родителей, педагог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образовательная работа с деть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коммуникативной культуры обучающих­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1426"/>
              </a:spcAft>
              <a:buClr>
                <a:srgbClr val="fe8637"/>
              </a:buClr>
              <a:buFont typeface="Wingdings" charset="2"/>
              <a:buChar char="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коррекционных программ, направленных на сни­жение уровня агрессивности и сплочение детского (подростково­го) коллекти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entury Schoolbook"/>
              </a:rPr>
              <a:t>Благодарю            за внимание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Дата 3"/>
          <p:cNvSpPr/>
          <p:nvPr/>
        </p:nvSpPr>
        <p:spPr>
          <a:xfrm>
            <a:off x="8786880" y="268200"/>
            <a:ext cx="200988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Админ</cp:lastModifiedBy>
  <dcterms:modified xsi:type="dcterms:W3CDTF">2017-03-26T18:25:16Z</dcterms:modified>
  <cp:revision>27</cp:revision>
  <dc:subject/>
  <dc:title>ОТЧЕТ СОЦИАЛЬНОГО ПЕДАГОГА О ДЕЯТЕЛЬНОСТИ В   2010-2011 у.г.</dc:title>
</cp:coreProperties>
</file>